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C115-240C-42F5-9A24-8318449F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7759-9B41-4382-A70E-A9B9D2DF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A309-1DB0-4880-B0F0-900AACDCD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D00C-1A65-402C-94B7-D3CF416AD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FA32-7966-4006-9FDC-1E0A93DBB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B5C2-5B64-42E8-941D-809187CA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3C93-704C-4010-898B-4955E350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9474-F02C-4CF5-AA06-E65AE435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DEA5-D321-4188-B9CD-44E9EF6E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9BCA-9423-44DB-BAF9-CA640355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0743-7690-46FE-BE8C-4412E9E2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26B3-2AD9-4462-9E81-1DC678CF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D9D8-CDC1-449B-A31A-AC7F0CEB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9228-462B-42F5-942D-F95E4BDC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8FD6-DACB-4A1C-8C0B-8A8935F9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E10D-349A-4487-8DA7-C5DC7214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8996-8679-4999-9A6F-4C0D1D15E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5F98-EA4F-41BA-98AB-3D81237C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342A-7978-4582-832A-8B1034C5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C843-F0C5-45F2-8743-A60E1896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E42C-3533-490B-A761-C482AC92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F77D-15A7-480A-9757-74501C13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9266-76F6-447A-91D0-4858487E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587E-F7CA-48CB-AD10-8198D2B1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DE1A-C8C9-49CF-AE1E-14D9E2166C3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40F8-DC04-4071-B5CB-0CC89EDB2CC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00ff99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00ff99"/>
                </a:solidFill>
                <a:latin typeface="Tahoma"/>
              </a:rPr>
              <a:t>Ai muncit opt ani!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ff99"/>
                </a:solidFill>
                <a:latin typeface="Tahoma"/>
              </a:rPr>
              <a:t>Se apropie Evaluarea Naţională! Acest an şcolar este cel mai important de până acum 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cc"/>
                </a:solidFill>
                <a:latin typeface="Tahoma"/>
              </a:rPr>
              <a:t>Urmează un capitol foarte plăcut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Vom pune în practică formulele învăţate şi cunoştinţele teoreti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Vom rezolva împreună probleme cu aplicaţii în viaţa de zi cu 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cc"/>
                </a:solidFill>
                <a:latin typeface="Tahoma"/>
              </a:rPr>
              <a:t>Veţi susţine un prim test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Test cu ajutorul căruia vă veţi verifica dacă aveţi cunoştinţele teoretice necesare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 Prisme : definiţii, figuri, elemente , proprietăţ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Piramide : definiţii, figuri, elemente , proprietăţ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Formulele pentru elementele poligoanelor regul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Formulele pentru arii şi volu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cc"/>
                </a:solidFill>
                <a:latin typeface="Tahoma"/>
              </a:rPr>
              <a:t>După fiecare lecţie, veţi susţine un test în ora următoar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Problemele de la test vor fi asemănătoare cu cele din tema de cas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Imediat după ce predaţi testul , profesorul va face corectarea problemelor la tablă şi va expune criteriile de notare,deci fiţi foarte atenţi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Nu uitaţi că nu neapărat nota este cea mai importantă . E important să ştim să rezolvăm problemel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Fiecare notă va fi trecută într-o fişă de notare (tabel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La sfârşitul unui capitol se va face media între notele obţinute până atunci şi nota finală se trece în catalo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O notă mică te obligă să repeţi lecţia respectivă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O notă mică se poate repara cu următoarele note mari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cc"/>
                </a:solidFill>
                <a:latin typeface="Tahoma"/>
              </a:rPr>
              <a:t>La finalul acestui capitol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ff"/>
                </a:solidFill>
                <a:latin typeface="Tahoma"/>
              </a:rPr>
              <a:t>Vei susţine simularea unei probe la matematică , la fel ca cea de la Evaluarea Naţională 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17:29:04Z</dcterms:created>
  <dc:creator>curs</dc:creator>
  <dc:description/>
  <dc:language>en-US</dc:language>
  <cp:lastModifiedBy>curs</cp:lastModifiedBy>
  <dcterms:modified xsi:type="dcterms:W3CDTF">2010-11-26T17:47:52Z</dcterms:modified>
  <cp:revision>7</cp:revision>
  <dc:subject/>
  <dc:title>Diapozitivul 1</dc:title>
</cp:coreProperties>
</file>